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27B1-9033-4DA8-ACA9-FE94610F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812-E624-4BAE-945A-25332FEA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F05-4FAA-4B11-AEAD-6679276C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F59C-4C0E-4221-B3C0-67E6DF45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448A-4581-463E-AABF-B8240EC7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0EDF-AF60-48D9-8FC4-2651668D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C939-5B6E-4ECB-A02C-7FE9C6DA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DF1E-38D3-4EE5-9AFE-78123C43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0C64-6B30-4BDF-8AD3-89505DF0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724C-540D-432E-AC33-37B0E969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FAC4-614A-4DD4-B83D-9B8056B0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8621-29AC-4A54-B269-17452556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0B63-26F6-4D90-8DC7-2E2F0E2F41C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513072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908000" y="907920"/>
            <a:ext cx="7110720" cy="606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1306440" y="2276640"/>
            <a:ext cx="751536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2138400" y="4581360"/>
            <a:ext cx="6754680" cy="62244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179280" y="2852640"/>
            <a:ext cx="85694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179280" y="1585800"/>
            <a:ext cx="856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تحية أهل الجنة بعضهم لبعض كلام سالم من اللغو والآث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324000" y="3699000"/>
            <a:ext cx="8496000" cy="66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7"/>
          <a:stretch/>
        </p:blipFill>
        <p:spPr>
          <a:xfrm>
            <a:off x="395280" y="6148440"/>
            <a:ext cx="84963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1"/>
          <a:stretch/>
        </p:blipFill>
        <p:spPr>
          <a:xfrm>
            <a:off x="539640" y="1844640"/>
            <a:ext cx="81360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95480" y="4746600"/>
            <a:ext cx="335304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969840"/>
            <a:ext cx="878544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13800" cy="46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59840" cy="86544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65300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187200" y="6014880"/>
            <a:ext cx="496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دلائل وحدانيتنا تاركون النظر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1052640"/>
            <a:ext cx="4176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5372280"/>
            <a:ext cx="4968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دل الآخرة لإنكارهم ل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قبال على الدنيا والانهماك في طلبها حتى تكون أكبر الهم ومبلغ العلم دون التفات إلى إرضاء الرب أو استعداد للآخر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ذر منه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غترار بحال الكفار الذين قصروا هممهم على الدنيا ولم يفكروا بالآخرة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314172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غفلة والإعراض عن التفكر بآيات الله الكونية والتدبر لآياته القرآن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ذر من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78936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الصالح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443700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من زعم أن تصديق القلب كاف للفلاح في الآخر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ذكر أنه يهدي من آمن وعمل صالحاً إلى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08000" y="5300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طريق الإنسان إلى الجنة هو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يمان والعمل الصال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0800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ب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غب في الإيمان وحرص على العمل الصالح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هداه الله وثب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249228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مال نعيم أهل الجنة لاشتماله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نعيم القلب ونعيم الروح ونعيم البد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314172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كمال نعيم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كاليف على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توج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08000" y="47242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بادة أهل الجنة في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سبيح والسلام والتحم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08000" y="5300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لهم أهل الجنة التسبيح والسلام والتحم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غير كلفة ولا مش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098720" y="3611520"/>
            <a:ext cx="7762680" cy="46512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08000" y="58118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مرة التسبيح والسلام والتحميد ل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طمئن قلوبهم وتفرح أرواح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62434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تحية أهل الجنة بعضهم لبعض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ام سالم من اللغو والآث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0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304920" y="1557360"/>
            <a:ext cx="8659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4T14:44:43Z</dcterms:modified>
  <cp:revision>1926</cp:revision>
  <dc:subject/>
  <dc:title>عرض تقديمي في PowerPoint</dc:title>
</cp:coreProperties>
</file>